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F388-0060-4606-8E9B-B561817E5A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D553-A738-47D7-AE45-D3693CDA8F4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6967-66C7-482A-BC54-1158F993AF3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468D-C950-47D6-AD35-ED20DF1419E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5E1C-2257-4CD2-9CC0-EB2ACD1E7C1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5868-D418-4529-ACB8-6142A695AEE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C984-E573-46B4-BF59-B91BD06FCB3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5B40-08D0-464F-BB0B-A74A58A378B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2912-9C13-4F63-9EEF-1534755487F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738C-F0E3-4BD2-8BD5-0DFA71AA65C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10D1-0A19-4FB1-8575-3E01919401D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8C52-39E7-482A-AABC-3BA6A6DC5D9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DBDF-1A1D-4849-A016-8DBB95B8C55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209B-9A06-4305-8586-BF9D568FBB6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2F72-3EF6-4186-848A-B38F5E57E9D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5E1D-F9B3-49D9-AE3D-53F5B1CF0B6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1908-6C2D-4499-BCB0-1772348671E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CE39-54E5-4D70-B38C-23A4321B07F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22BE-3F77-428F-BF61-0851AC4C8AA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B72C-EB15-4497-A661-F685A228723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27AC-BCE0-4F59-A514-093D19B6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D4B5-3D9B-447B-B5DA-BBA8489D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5E2B-418C-4814-A63F-691FAAE3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8D1-91BB-4B7C-BE32-400182E3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EA2F-94F6-4368-BB42-E94281FA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0CD1-BC9D-492D-AA2F-65B39636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88EA-565B-4B66-A849-EFBC876C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2A36-0EB9-4B5C-BDFB-7C162A42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DFA0-C405-4249-BF45-AA258C53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DAB0-9CA9-4883-A528-BD4900C7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B418-85E8-45B9-9BFB-C3411CD7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F12F-8636-4F4F-A9E3-C6947DC6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A027-07F0-4D9D-91D3-5BDC537F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9254-88CB-4E62-9936-4A513948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392F-2AFF-49F3-9FD1-80913997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34FB-1D82-463D-9C06-5EDF3049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AE5A-BF0F-48F3-9F44-2AEF4B2F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43F-2148-48B1-8C0A-76942FCE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D2B-0155-4070-9B92-EA6CB9C1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E9B2-461A-4E99-8CD8-98C55AE3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FCFC-1E9B-410B-85A0-B287E3DF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25D0-49F4-4608-8D86-277E66AE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8D78-B241-473A-BDF2-AA72DD46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76EC-E803-4B2B-81DF-A04CBD98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C8BD-1000-4D7A-BB87-D37325C5203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04C3-9C6B-40D6-9EDD-0475D89A0FD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g.gasos@ebf-fbe.eu" TargetMode="External"/><Relationship Id="rId2" Type="http://schemas.openxmlformats.org/officeDocument/2006/relationships/hyperlink" Target="mailto:g.gasos@ebf-fbe.eu" TargetMode="External"/><Relationship Id="rId3" Type="http://schemas.openxmlformats.org/officeDocument/2006/relationships/hyperlink" Target="mailto:g.gasos@ebf-fbe.eu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3142800"/>
            <a:ext cx="64818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mmary of EBF response to the </a:t>
            </a: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Basel Committee proposal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Gonzalo Gasos, EBF Adviser</a:t>
            </a:r>
            <a:br>
              <a:rPr sz="2800"/>
            </a:b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0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000"/>
            </a:br>
            <a:r>
              <a:rPr b="0" lang="fr-FR" sz="16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14360" y="259920"/>
            <a:ext cx="514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Real economy.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Objectives and challeng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C1D1-BCA8-454C-AEE0-D888842EF0D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00040" y="1571760"/>
            <a:ext cx="8229600" cy="48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EBF arguments with a credible analysis of the likely global macroeconomic impact of proposed regulatory chang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o do so in a time frame that will allow for an input into key decisions (e.g. before mid-year 2010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a framework for discussion of this topic in the broader public environ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ed regulatory changes ill-defined. Need for scenarios and simulation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ventional macro models not much help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data from reliable consistent source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9" name="Picture 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389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Summary of intended approach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AFBF-C964-4427-B6D7-25A9E969B38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00040" y="157176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571680" y="2063880"/>
            <a:ext cx="8358120" cy="1769760"/>
            <a:chOff x="571680" y="2063880"/>
            <a:chExt cx="8358120" cy="1769760"/>
          </a:xfrm>
        </p:grpSpPr>
        <p:sp>
          <p:nvSpPr>
            <p:cNvPr id="135" name="Text Box 5"/>
            <p:cNvSpPr/>
            <p:nvPr/>
          </p:nvSpPr>
          <p:spPr>
            <a:xfrm>
              <a:off x="571680" y="2063880"/>
              <a:ext cx="1396440" cy="17697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dentify and quantify proposed change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>
              <a:off x="2082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2711520" y="2446920"/>
              <a:ext cx="132660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odel of banking sector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4071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4714920" y="2268360"/>
              <a:ext cx="1785960" cy="14486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Assump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cenario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imula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657252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7180920" y="2268360"/>
              <a:ext cx="174888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acro impact, especially growth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sp>
        <p:nvSpPr>
          <p:cNvPr id="142" name="Text Box 12"/>
          <p:cNvSpPr/>
          <p:nvPr/>
        </p:nvSpPr>
        <p:spPr>
          <a:xfrm>
            <a:off x="533520" y="441792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Expected end result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 magic number, but a framework (and supporting report) that will allow for discussion and debate, both with the public sector and within the private sector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Lots of sensitivity analysi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3" name="Picture 1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Modelling approach in outlin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6771-66F4-4AD6-9F5C-D1F81CE0207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1828800"/>
            <a:ext cx="82296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EBF is collaborating with the IIF to use a simple, spreadsheet-based model with a heavy emphasis on the banking sector. Five blocks: Euro area, U.K., U.S., Japan and Canada.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odels have four components: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balance-shee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 capital supply funct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profit and loss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acroeconomic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models allow a fairly precise articulation and quantification of the key regulatory changes being proposed and their simultaneous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side from providing some quantitative estimates of changes, the framework provides a helpful, historic dataset, upon which to base discuss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072040" y="2786040"/>
            <a:ext cx="3929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nd three key behavioral links: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Cost of bank capital/new issuanc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Private credit demand/lending rat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minal GDP/credit supply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9" name="Picture 7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410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FE02-F4FE-4F58-9B9A-EF498557626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642960" y="1819440"/>
            <a:ext cx="8298000" cy="4109760"/>
            <a:chOff x="642960" y="1819440"/>
            <a:chExt cx="8298000" cy="4109760"/>
          </a:xfrm>
        </p:grpSpPr>
        <p:sp>
          <p:nvSpPr>
            <p:cNvPr id="154" name="Text Box 4"/>
            <p:cNvSpPr/>
            <p:nvPr/>
          </p:nvSpPr>
          <p:spPr>
            <a:xfrm>
              <a:off x="642960" y="2475720"/>
              <a:ext cx="1438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To achieve higher required capital ratio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 rot="2430600">
              <a:off x="2225160" y="42746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2945160" y="2726280"/>
              <a:ext cx="122292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ssue new equity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4312080" y="285660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5103360" y="2287080"/>
              <a:ext cx="143856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cost of funding to bank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6686280" y="32162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7430400" y="2857320"/>
              <a:ext cx="1510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lending spread to private sector borrower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2967480" y="3949200"/>
              <a:ext cx="131904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ncrease retained profit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2" name="AutoShape 13"/>
            <p:cNvSpPr/>
            <p:nvPr/>
          </p:nvSpPr>
          <p:spPr>
            <a:xfrm rot="19168800">
              <a:off x="2225160" y="323136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3" name="AutoShape 7"/>
            <p:cNvSpPr/>
            <p:nvPr/>
          </p:nvSpPr>
          <p:spPr>
            <a:xfrm>
              <a:off x="4383720" y="4511520"/>
              <a:ext cx="2661840" cy="215640"/>
            </a:xfrm>
            <a:prstGeom prst="rightArrow">
              <a:avLst>
                <a:gd name="adj1" fmla="val 50000"/>
                <a:gd name="adj2" fmla="val 308598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4" name="Rectangle 2"/>
            <p:cNvSpPr/>
            <p:nvPr/>
          </p:nvSpPr>
          <p:spPr>
            <a:xfrm>
              <a:off x="714600" y="5137920"/>
              <a:ext cx="8184960" cy="791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Do banks have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Which route to higher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pricing power to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    equity will be chosen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raise lending rate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 rot="19168800">
              <a:off x="2225160" y="226008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2945160" y="1819440"/>
              <a:ext cx="1222920" cy="764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Cut RWA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4312080" y="1900080"/>
              <a:ext cx="4604400" cy="215640"/>
            </a:xfrm>
            <a:prstGeom prst="rightArrow">
              <a:avLst>
                <a:gd name="adj1" fmla="val 50000"/>
                <a:gd name="adj2" fmla="val 533806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68" name="Picture 2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403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839A-36AC-4993-AA04-0FD0E428ECC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500040" y="1643040"/>
            <a:ext cx="8501040" cy="4714560"/>
            <a:chOff x="500040" y="1643040"/>
            <a:chExt cx="8501040" cy="4714560"/>
          </a:xfrm>
        </p:grpSpPr>
        <p:sp>
          <p:nvSpPr>
            <p:cNvPr id="173" name="Text Box 4"/>
            <p:cNvSpPr/>
            <p:nvPr/>
          </p:nvSpPr>
          <p:spPr>
            <a:xfrm>
              <a:off x="793080" y="4472280"/>
              <a:ext cx="2491560" cy="10087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vailability of credit from non-bank sources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 rot="19807200">
              <a:off x="3358080" y="454356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000320" y="3071880"/>
              <a:ext cx="1407600" cy="16185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ggregate whole economy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5410080" y="375804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96520" y="2900520"/>
              <a:ext cx="1392120" cy="19234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Nominal GDP driven by aggregate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719640" y="1643040"/>
              <a:ext cx="7841520" cy="0"/>
            </a:xfrm>
            <a:prstGeom prst="line">
              <a:avLst/>
            </a:prstGeom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 rot="2058000">
              <a:off x="3431160" y="28288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grpSp>
          <p:nvGrpSpPr>
            <p:cNvPr id="180" name="Group 29"/>
            <p:cNvGrpSpPr/>
            <p:nvPr/>
          </p:nvGrpSpPr>
          <p:grpSpPr>
            <a:xfrm>
              <a:off x="795960" y="1643040"/>
              <a:ext cx="2781360" cy="2451960"/>
              <a:chOff x="795960" y="1643040"/>
              <a:chExt cx="2781360" cy="2451960"/>
            </a:xfrm>
          </p:grpSpPr>
          <p:sp>
            <p:nvSpPr>
              <p:cNvPr id="181" name="Line 15"/>
              <p:cNvSpPr/>
              <p:nvPr/>
            </p:nvSpPr>
            <p:spPr>
              <a:xfrm>
                <a:off x="795960" y="1829160"/>
                <a:ext cx="0" cy="192852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2" name="Line 16"/>
              <p:cNvSpPr/>
              <p:nvPr/>
            </p:nvSpPr>
            <p:spPr>
              <a:xfrm>
                <a:off x="795960" y="3757680"/>
                <a:ext cx="2418480" cy="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3" name="Line 17"/>
              <p:cNvSpPr/>
              <p:nvPr/>
            </p:nvSpPr>
            <p:spPr>
              <a:xfrm>
                <a:off x="1088640" y="2043360"/>
                <a:ext cx="1832040" cy="1356840"/>
              </a:xfrm>
              <a:prstGeom prst="line">
                <a:avLst/>
              </a:prstGeom>
              <a:ln w="19080">
                <a:solidFill>
                  <a:srgbClr val="f68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4" name="Line 18"/>
              <p:cNvSpPr/>
              <p:nvPr/>
            </p:nvSpPr>
            <p:spPr>
              <a:xfrm flipV="1">
                <a:off x="1497960" y="229176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5" name="Line 19"/>
              <p:cNvSpPr/>
              <p:nvPr/>
            </p:nvSpPr>
            <p:spPr>
              <a:xfrm flipV="1">
                <a:off x="917640" y="184104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6" name="Text Box 20"/>
              <p:cNvSpPr/>
              <p:nvPr/>
            </p:nvSpPr>
            <p:spPr>
              <a:xfrm>
                <a:off x="2994480" y="3266280"/>
                <a:ext cx="36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3137760" y="207756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2531880" y="164304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21880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>
                <a:off x="2322360" y="2986560"/>
                <a:ext cx="0" cy="77076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1" name="Line 25"/>
              <p:cNvSpPr/>
              <p:nvPr/>
            </p:nvSpPr>
            <p:spPr>
              <a:xfrm>
                <a:off x="1724040" y="2528280"/>
                <a:ext cx="0" cy="122904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2" name="Text Box 26"/>
              <p:cNvSpPr/>
              <p:nvPr/>
            </p:nvSpPr>
            <p:spPr>
              <a:xfrm>
                <a:off x="14554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3" name="Line 27"/>
              <p:cNvSpPr/>
              <p:nvPr/>
            </p:nvSpPr>
            <p:spPr>
              <a:xfrm flipH="1">
                <a:off x="1841400" y="3927240"/>
                <a:ext cx="346320" cy="0"/>
              </a:xfrm>
              <a:prstGeom prst="line">
                <a:avLst/>
              </a:prstGeom>
              <a:ln w="9360">
                <a:solidFill>
                  <a:srgbClr val="005cad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</p:grpSp>
        <p:sp>
          <p:nvSpPr>
            <p:cNvPr id="194" name="Text Box 10"/>
            <p:cNvSpPr/>
            <p:nvPr/>
          </p:nvSpPr>
          <p:spPr>
            <a:xfrm>
              <a:off x="8121960" y="3472200"/>
              <a:ext cx="879120" cy="7038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Real GDP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5" name="AutoShape 9"/>
            <p:cNvSpPr/>
            <p:nvPr/>
          </p:nvSpPr>
          <p:spPr>
            <a:xfrm>
              <a:off x="7462080" y="37666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6" name="Rectangle 2"/>
            <p:cNvSpPr/>
            <p:nvPr/>
          </p:nvSpPr>
          <p:spPr>
            <a:xfrm>
              <a:off x="500040" y="5572080"/>
              <a:ext cx="8337960" cy="7855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How much can non-banks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substitute for bank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97" name="Picture 4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Preliminary results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IIF approach</a:t>
            </a:r>
            <a:br>
              <a:rPr sz="3400"/>
            </a:b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0040" y="164304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 the regulatory change scenario, the real GDP is projected to b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2.5% lower in the US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1.9% lower in Japan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4% lower in the Euro Area – the largest banking system -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s of these 3 economies will need to raise $0.8 trillion of common equity and issue $3.7 trillion of long-term debt in 2010-2015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banks lending spread to the private sector in the Euro Area would increase as much as 180 bp at the peak (2013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45AF-DEBF-4160-B39D-3F59352C678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Real bank lending rat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ore equity shadow price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989000" y="1643040"/>
            <a:ext cx="4789800" cy="2428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1984320" y="4214880"/>
            <a:ext cx="4802400" cy="250020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7AF4-0BB2-4297-B557-E0463BB9611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 credit growth to private sector (top)</a:t>
            </a:r>
            <a:br>
              <a:rPr sz="2600"/>
            </a:b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s’ return on equity (bottom)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9B98-5261-4B03-AF76-1DFD78637A6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4659480" cy="241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2143080" y="4286160"/>
            <a:ext cx="4643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GDP cumulativ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mployment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683F-D806-4B60-A34C-F2D687AE4CE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4811760" cy="244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2071800" y="4272120"/>
            <a:ext cx="48276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anks for your atten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oubts, comments, opinions would be welcome 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.gasos@ebf-fbe.eu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EA61-C7D7-40D9-ACE2-23E4FD63026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20" name="Picture 5" descr="Logo IIF.JPG"/>
          <p:cNvPicPr/>
          <p:nvPr/>
        </p:nvPicPr>
        <p:blipFill>
          <a:blip r:embed="rId4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B047-3C5B-4026-9E9C-E17DE5FBBCA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welcomes the willingness to strengthen the resilience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Firstly, need for improved supervis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wness and complexity of proposals require further analysis and a second consult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ay heed to the interplays between different measur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Assessment of the overall impac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EE37-53E7-4487-AD08-E0E5AE09409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00040" y="193212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INCIPL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ation of banks’ lending capacity in the EU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sistency in regulations (single rulebook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national level playing fiel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anking sector competitive edge notably the ability to raise new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4623-354F-4675-9F94-9FF1710221E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0040" y="191628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ransition perio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Grandfathering arrang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Minority interes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Deferred tax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ension fund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1401-5CDA-4C1A-AC59-B347739148D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9640" y="1628640"/>
            <a:ext cx="822960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overlapping el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mote the use of central clering counterparties without penalizing OTC derivativ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e the right incentives to risk manage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he appropriateness of Pillar 2: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everage ratio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apital buffer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0B5F-D77E-4DF8-B155-01F6087E282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0040" y="209376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supports the provisioning based on expected los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 not the downturn probability of default in pillar 1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Restrictions to dividend pay-ou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xcessive credit growth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E08D-1625-4DC8-9B41-DC69115F6AF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iquidity ratio accepted but need to review the detai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t stable funding ratio would distort maturity transform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re-thinking the NSFR propos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plays: the combination of liquidity ratios, capital buffers and stringent definition of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3142800"/>
            <a:ext cx="77724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ing the Cumulative Impact of Proposed Regulatory Changes 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Banking sector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C802-4A04-45D6-AAA9-E3B45F0079C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627200" y="1643040"/>
            <a:ext cx="5945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13:41Z</dcterms:created>
  <dc:creator>Gonzalo Gasos</dc:creator>
  <dc:description/>
  <dc:language>en-US</dc:language>
  <cp:lastModifiedBy>Viktorija Proskurovska</cp:lastModifiedBy>
  <dcterms:modified xsi:type="dcterms:W3CDTF">2010-06-01T07:14:05Z</dcterms:modified>
  <cp:revision>421</cp:revision>
  <dc:subject/>
  <dc:title>ICAAP Seminar Rome, 20-22 October 2009</dc:title>
</cp:coreProperties>
</file>